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A670-C0BE-46A5-87F9-17082D81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ED9-7228-43C3-99BF-5D064C6F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A37-3F81-4278-863D-4489BAE3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E659-D48D-46C1-A3B1-D1342F74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4C7C-8DEE-46DD-9546-089BE880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CF50-2F0D-42DF-85DE-C9FBBADF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3700-2EA6-4700-AFB7-9D9C3727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C1F8-3A5E-4C30-85DC-0B8837A7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0849-554F-4275-AC50-97A4146C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453-BA33-4317-B7B4-1549CFD8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94F-EF2C-4560-8C4D-96A4CD6A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7631-445B-4D74-B868-3A3FA53E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4773-C440-4DCC-A1BF-6A59BFA41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495288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ppy Thursday! 5/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3657600"/>
            <a:ext cx="5943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8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ake a ½ white shee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lease turn in your China metaphors (visual AND written explanation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48520" y="2133720"/>
            <a:ext cx="2647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d War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86104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zi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Homewor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– Due Thurs. 5/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819160" y="1294920"/>
            <a:ext cx="55623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Cake No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Chapter 33 Section 1: Only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pages 967-97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from United States Tries to Contain Sovi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have work time in class on Tuesday 5/29 also, get started now in case you have question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088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o on the 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Semester 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4038480"/>
            <a:ext cx="6858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Exam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0 multiple choice and 5 short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10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your semester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use hand-written info on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review gui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ust fill out yoursel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In-class revie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ay Monday, Jun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e exam grade on your report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Homewor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– Due Thurs. 5/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95280"/>
            <a:ext cx="55623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Cake No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Chapter 33 Section 1: Only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pages 967-9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4295520" cy="2111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ursday, May 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taph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e!  Cold War Da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esday, May 2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Cold War 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ursday, May 3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Cold War Day 3.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Last homework assignment d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iday, June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Extra Cred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e! NOTE: We DO NOT hav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42955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day, June 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 Review Day!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extbook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e.  You can turn your textbook in at ANY TIME before then. There is a $75 fee for lost 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ursday, June 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Hou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xam (9:10-10: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iday, June 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Hou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xam (9:10-10: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42955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ursday, May 2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Metaph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ue!  Cold War Day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esday, May 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Cold War 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ursday, May 3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Cold War Day 3.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Last homework assignment d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iday, June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Extra Cred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ue! NOTE: We DO NOT hav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day, June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 Review Day!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Textbook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ue.  You can turn your textbook in at ANY TIME before then. There is a $75 fee for lost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ursday, June 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5</a:t>
            </a:r>
            <a:r>
              <a:rPr b="0" lang="en-US" sz="2400" spc="-1" strike="noStrike" baseline="30000">
                <a:solidFill>
                  <a:srgbClr val="00ff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H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am (9:10-10: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iday, June 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ff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H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am (9:10-10: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42955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d War Persp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95480" y="1219320"/>
            <a:ext cx="5243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d War Persp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09680" y="1066680"/>
            <a:ext cx="4845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d War Sym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23760" y="1446120"/>
            <a:ext cx="71535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d War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5943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9:03:20Z</dcterms:created>
  <dc:creator>MCPASD</dc:creator>
  <dc:description/>
  <dc:language>en-US</dc:language>
  <cp:lastModifiedBy>MCPASD</cp:lastModifiedBy>
  <dcterms:modified xsi:type="dcterms:W3CDTF">2012-05-24T18:14:42Z</dcterms:modified>
  <cp:revision>15</cp:revision>
  <dc:subject/>
  <dc:title>Slide 1</dc:title>
</cp:coreProperties>
</file>